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C1A-5795-4657-B4FA-19AFF3A2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26A-A253-4F20-BBBF-56E626E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EBB-4110-4F1B-874C-8183162D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994-FD4E-4E63-92F2-7972C60E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C0B-76A6-4FD8-9EC9-EF8D423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D41-73CA-4E68-AAB9-6268D0AC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C78-2618-465B-B6DC-5F14088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177-5F3E-47C3-A726-5F962C51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B8E-04B7-43C7-860F-D908A0D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1AA-BA0C-4988-8C03-D097ABD3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D29-A69B-494C-BD34-0D40D5D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84F-5360-4065-94A9-924E266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D9D-2B3D-4C63-8164-4B50E2CAB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adley Hand ITC TT-Bold"/>
              </a:rPr>
              <a:t>WHY COME TO AMERICA</a:t>
            </a: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_x0014_01-Tobacco-Field.jpg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533520" y="1630440"/>
            <a:ext cx="8001000" cy="5227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adley Hand ITC TT-Bold"/>
              </a:rPr>
              <a:t>JAMESTOWN $$$$$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 TT-Bold"/>
              </a:rPr>
              <a:t>HARD WORK</a:t>
            </a:r>
            <a:br>
              <a:rPr sz="6600"/>
            </a:b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Make someone else do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7" descr="_x000f_tobacco harvest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955880"/>
            <a:ext cx="72392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 TT-Bold"/>
              </a:rPr>
              <a:t>Massachusetts Bay Colon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&#9;ships.gif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371600" y="2614680"/>
            <a:ext cx="66294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ETTLED BY PURIT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&#9;purit.gif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1536840"/>
            <a:ext cx="3708360" cy="532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_x000c_purit18h.jpg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3429000" y="2286000"/>
            <a:ext cx="57150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adley Hand ITC TT-Bold"/>
              </a:rPr>
              <a:t>PLYMOUTH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 TT-Bold"/>
              </a:rPr>
              <a:t>settled by separatists from the Church of England to avoid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28" descr="&#9;purit.gif                                                      0000B182_x000c_Macintosh HD                   ABA78158:"/>
          <p:cNvPicPr/>
          <p:nvPr/>
        </p:nvPicPr>
        <p:blipFill>
          <a:blip r:embed="rId1"/>
          <a:stretch/>
        </p:blipFill>
        <p:spPr>
          <a:xfrm>
            <a:off x="1157400" y="1981080"/>
            <a:ext cx="286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TARTING PLYMOUTH COLO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&#10;voyage.gif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981080"/>
            <a:ext cx="69343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&#13;mayflower.gif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0785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Bradley Hand ITC TT-Bold"/>
              </a:rPr>
              <a:t>The Mayflow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adley Hand ITC TT-Bold"/>
              </a:rPr>
              <a:t>PENNSYLVANIA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adley Hand ITC TT-Bold"/>
              </a:rPr>
              <a:t>settled by Quakers in search of religious free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&#10;quaker.jpg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2214720"/>
            <a:ext cx="38098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adley Hand ITC TT-Bold"/>
              </a:rPr>
              <a:t>GEORGIA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Bradley Hand ITC TT-Bold"/>
              </a:rPr>
              <a:t>settled by debtors fr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adley Hand ITC TT-Bold"/>
              </a:rPr>
              <a:t>prisons in En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_x0010_debtorprison.JPG                                               0000AEC9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414520"/>
            <a:ext cx="5257800" cy="444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_x0006_ga.gif    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5638680" y="2590920"/>
            <a:ext cx="3213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 TT-Bold"/>
              </a:rPr>
              <a:t>DAN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3880" y="1981080"/>
            <a:ext cx="5791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HIP WR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STA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ATTACKS BY 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WIL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-FEAR OF THE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Bradley Hand ITC TT-Bold"/>
              </a:rPr>
              <a:t>MOTIVATING FOR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RELIGION (Pers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MONEY (Pers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 TT-Bold"/>
              </a:rPr>
              <a:t>EMPIRE (National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ENGLISH SETTLERS IN VA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NOKE ISLAND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Lost Col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nded for economic reasons by the Engl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st permanent English sett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8" descr="_x000f_croatantree.gif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2133720"/>
            <a:ext cx="434340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_x0010_jamestownmap.jpg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1752480" y="0"/>
            <a:ext cx="5457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65534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adley Hand ITC TT-Bold"/>
              </a:rPr>
              <a:t>JAMESTOWN LOC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c_spanship.jpg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939960"/>
            <a:ext cx="7137360" cy="591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&#10;Native.jpg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228600" y="762120"/>
            <a:ext cx="3289320" cy="482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Bradley Hand ITC TT-Bold"/>
              </a:rPr>
              <a:t>GOOD THING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swamp.jpg   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3581280" y="2590920"/>
            <a:ext cx="520704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BAD THING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_x000c_mosquito.jpg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-380880" y="2819520"/>
            <a:ext cx="53337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c_fancyman.jpg                                                   00003935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1523880"/>
            <a:ext cx="389412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radley Hand ITC TT-Bold"/>
              </a:rPr>
              <a:t>BAD 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_x0008_gold.jpg                                                       00003935_x000c_Macintosh HD                   ABA78158:"/>
          <p:cNvPicPr/>
          <p:nvPr/>
        </p:nvPicPr>
        <p:blipFill>
          <a:blip r:embed="rId2"/>
          <a:stretch/>
        </p:blipFill>
        <p:spPr>
          <a:xfrm>
            <a:off x="5257800" y="2209680"/>
            <a:ext cx="26668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3:45:12Z</dcterms:created>
  <dc:creator>HCPS</dc:creator>
  <dc:description/>
  <dc:language>en-US</dc:language>
  <cp:lastModifiedBy>Barbara Weaver</cp:lastModifiedBy>
  <dcterms:modified xsi:type="dcterms:W3CDTF">2011-10-14T18:54:25Z</dcterms:modified>
  <cp:revision>31</cp:revision>
  <dc:subject/>
  <dc:title>WHY COME TO AMERICA?</dc:title>
</cp:coreProperties>
</file>